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A29B-2730-43FF-8234-7FD6B28CE7D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to module 4 of our online training to support the Common Core – Essential Standards that will be implemented during the 2012-2013 school ye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4311-68C0-44CC-B2D7-41F20D2508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seek to understand other perspectives and cultures through reading &amp; listening.  They can communicate effectively with people of varied backgrounds.  Identify on your note-taking tool the things you do in your classroom to promote this concept.  Think about how you teach students to see the world differently - artistically.  Consider the things you do to promote higher-order thinking (beyond basic cultural appreciation).</a:t>
            </a:r>
            <a:endParaRPr b="0" lang="en-US" sz="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arts students have the opportunity to integrate their knowledge and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I is a state-led effort to create shared high standards to make sure all American students are ready for college an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takeaway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ollow progressive development of reading comprehension so they can understand more of what they read and are prepared to attack more challenging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read a diverse array of classic and contemporary literature as well as challenging informational text in a range of subjects.  Students are expected to build knowledge, gain insights, explore possibilities, and broaden their persp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expected to read classic myths, stories from around the world, foundational US documents (like the Gettysburg address), seminal works of American literature, and the writings of Shakespe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an example on how this might be reinforced in the Arts class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our learning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ase proceed to the “Do” section of this modul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who are college &amp; career ready in Reading, Writing, Speaking, Listening, and Language can comprehend and evaluate complex texts across a range of types and disciplines, and they can construct effective arguments and convey intricate or multifaceted information.</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independently discern a speaker’s key points, request clarification, and ask relevant questions.  </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build on others’ ideas, articulate their own ideas, and confirm they have been understood</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have a broad vocabulary from which to make specific choi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become self-directed learners who can identify resources that will assist in their learning.</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n does this occur in an arts classroom?  Reflect on the concepts above and add your thoughts to your note-taking tool.</a:t>
            </a:r>
            <a:endParaRPr b="0" lang="en-US" sz="6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y build content knowledge by reading purposefully and  listening attentively to gain discipline-specific expertise.  They refine and share their knowledge through writing and speaking.</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ow does this translate into the arts classroom - how do students learn Arts Content Knowledge?  Jot down your thoughts on the note-taking tool</a:t>
            </a:r>
            <a:endParaRPr b="0" lang="en-US" sz="6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adapt their communication based on their audience, task, purpose and discipline.  They understand tone when speaking and how connotations of words affect meaning.</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nsider how you build this in your Arts classroom and write it down on the note-taking tool</a:t>
            </a:r>
            <a:endParaRPr b="0" lang="en-US" sz="6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are engaged and open-minded but discerning readers and listeners.  Think about the criteria you have established in your classroom to analyze and critique works of art, music, dance, theatre.  Jot down any thoughts about how you might improve this work in your class and subsequently assist students in the English/Language Arts classroom.</a:t>
            </a:r>
            <a:endParaRPr b="0" lang="en-US" sz="6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cite specific evidence when offering an oral or written interpretation of a text.  They use relevant evidence when supporting their own points in writing and speaking.  They constructively evaluate their own &amp; others’ work based on evidence.</a:t>
            </a:r>
            <a:endParaRPr b="0" lang="en-US" sz="6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udents employ technology thoughtfully to enhance their reading, writing, speaking, listening, and language use.</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at are the most appropriate “tools” in the arts?  On your note-taking document, list any technology tools that facilitate instruction in the arts.</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D2CEA-62A5-46FD-ADF4-E0FA543FB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438B7-96DB-4DFA-B7E7-C2D77628F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7AC00-A521-4105-9B18-7B76E1BB0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70408-FE8E-43A1-A05A-ECB3B8FEF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0476B-DD8D-4DB7-8A02-BCAE18F8A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B49EB-D839-4312-A121-E67593620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37C3E-39EE-4C64-AF8A-33A4449E2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D353B-BCFC-47F5-BCC6-1C4A9047A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BD25C-10CD-4E3C-B409-2431A3921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C6A0C-67D8-42F5-8FF9-19D430A70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3D0B5-8A16-4ACA-8C0C-D3CD3E499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A046C-3EB0-4B46-80C2-C5556D6FF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4F972-E6F4-4F96-AF60-018A0BD85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BAA0A-BDDE-4917-B930-4D7589CF5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D58BA-2025-44B2-A451-C7F85700E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A41F1-18AD-4631-B5F3-D55D84617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4BAC8-DEBD-4CB5-979A-21EBC073D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95DCB-1660-404B-B397-A043230B5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4E535-8CB7-4DA1-812C-8747BD035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0DA3C-7901-4DC4-9FB2-8E12877F8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69B29-B4C9-4435-A3E1-F718173F2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C581-FBAF-499C-9AC8-452801151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D8356-89AF-4AA3-AE76-7831F3ED9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1991D-1716-4B18-8B88-69008C091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702E-92C0-47DA-80CD-5185AD004D8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01D44-2F97-4607-B4FF-094063A9F93E}"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dule 4—Literacy Strands</a:t>
            </a:r>
            <a:endParaRPr b="0" lang="en-US" sz="2700" spc="-1" strike="noStrike">
              <a:solidFill>
                <a:srgbClr val="000000"/>
              </a:solidFill>
              <a:latin typeface="Lucida Sans Unicode"/>
            </a:endParaRPr>
          </a:p>
        </p:txBody>
      </p:sp>
      <p:sp>
        <p:nvSpPr>
          <p:cNvPr id="104" name="Rectangle 4"/>
          <p:cNvSpPr/>
          <p:nvPr/>
        </p:nvSpPr>
        <p:spPr>
          <a:xfrm>
            <a:off x="1219320" y="1143000"/>
            <a:ext cx="655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rts Educ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Rectangle 2" descr=""/>
          <p:cNvPicPr/>
          <p:nvPr/>
        </p:nvPicPr>
        <p:blipFill>
          <a:blip r:embed="rId1"/>
          <a:stretch/>
        </p:blipFill>
        <p:spPr>
          <a:xfrm>
            <a:off x="450720" y="268200"/>
            <a:ext cx="8242560" cy="1158840"/>
          </a:xfrm>
          <a:prstGeom prst="rect">
            <a:avLst/>
          </a:prstGeom>
          <a:ln w="0">
            <a:noFill/>
          </a:ln>
        </p:spPr>
      </p:pic>
      <p:sp>
        <p:nvSpPr>
          <p:cNvPr id="122"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Come to understand other perspectives and cultures</a:t>
            </a:r>
            <a:endParaRPr b="0" lang="en-US" sz="38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Global nature of the 21st century classroom</a:t>
            </a:r>
            <a:endParaRPr b="0" lang="en-US" sz="26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Learning from one another &amp; working together</a:t>
            </a:r>
            <a:endParaRPr b="0" lang="en-US" sz="26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Communicate effectively with others</a:t>
            </a:r>
            <a:endParaRPr b="0" lang="en-US" sz="26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Demonstrate respect </a:t>
            </a:r>
            <a:endParaRPr b="0" lang="en-US" sz="2600" spc="-1" strike="noStrike">
              <a:solidFill>
                <a:srgbClr val="000000"/>
              </a:solidFill>
              <a:latin typeface="Lucida Sans Unicode"/>
            </a:endParaRPr>
          </a:p>
          <a:p>
            <a:pPr lvl="1" marL="620640" indent="0">
              <a:lnSpc>
                <a:spcPct val="17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0">
              <a:lnSpc>
                <a:spcPct val="17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50720" y="182520"/>
            <a:ext cx="8242560" cy="1244520"/>
          </a:xfrm>
          <a:prstGeom prst="rect">
            <a:avLst/>
          </a:prstGeom>
          <a:ln w="0">
            <a:noFill/>
          </a:ln>
        </p:spPr>
      </p:pic>
      <p:sp>
        <p:nvSpPr>
          <p:cNvPr id="124" name="PlaceHolder 1"/>
          <p:cNvSpPr>
            <a:spLocks noGrp="1"/>
          </p:cNvSpPr>
          <p:nvPr>
            <p:ph/>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Key Ideas and Details</a:t>
            </a:r>
            <a:endParaRPr b="0" lang="en-US" sz="27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 closely, make logical inferences, cite specific evidence</a:t>
            </a:r>
            <a:endParaRPr b="0" lang="en-US" sz="23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termine central ideas - summarize key supporting details and ideas</a:t>
            </a:r>
            <a:endParaRPr b="0" lang="en-US" sz="23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alyze how &amp; why individuals, events, ideas develop and interact over the course of the text</a:t>
            </a:r>
            <a:endParaRPr b="0" lang="en-US" sz="2300" spc="-1" strike="noStrike">
              <a:solidFill>
                <a:srgbClr val="000000"/>
              </a:solidFill>
              <a:latin typeface="Lucida Sans Unicode"/>
            </a:endParaRPr>
          </a:p>
          <a:p>
            <a:pPr marL="365040" indent="-255600">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der how this happens in your classroom.</a:t>
            </a:r>
            <a:endParaRPr b="0" lang="en-US" sz="2700" spc="-1" strike="noStrike">
              <a:solidFill>
                <a:srgbClr val="000000"/>
              </a:solidFill>
              <a:latin typeface="Lucida Sans Unicode"/>
            </a:endParaRPr>
          </a:p>
        </p:txBody>
      </p:sp>
      <p:sp>
        <p:nvSpPr>
          <p:cNvPr id="125" name="Rectangle 4"/>
          <p:cNvSpPr/>
          <p:nvPr/>
        </p:nvSpPr>
        <p:spPr>
          <a:xfrm>
            <a:off x="201600" y="6491160"/>
            <a:ext cx="87393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450720" y="268200"/>
            <a:ext cx="8242560" cy="1158840"/>
          </a:xfrm>
          <a:prstGeom prst="rect">
            <a:avLst/>
          </a:prstGeom>
          <a:ln w="0">
            <a:noFill/>
          </a:ln>
        </p:spPr>
      </p:pic>
      <p:sp>
        <p:nvSpPr>
          <p:cNvPr id="127" name="PlaceHolder 1"/>
          <p:cNvSpPr>
            <a:spLocks noGrp="1"/>
          </p:cNvSpPr>
          <p:nvPr>
            <p:ph/>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aft and Structure</a:t>
            </a:r>
            <a:endParaRPr b="0" lang="en-US" sz="27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rpret words and phrases</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alyze structure of texts </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ssess how point of view/purpose shapes the work</a:t>
            </a:r>
            <a:endParaRPr b="0" lang="en-US" sz="2300" spc="-1" strike="noStrike">
              <a:solidFill>
                <a:srgbClr val="000000"/>
              </a:solidFill>
              <a:latin typeface="Lucida Sans Unicode"/>
            </a:endParaRPr>
          </a:p>
          <a:p>
            <a:pPr lvl="1" marL="620640" indent="0">
              <a:lnSpc>
                <a:spcPct val="21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sider how this happens in your classroom…</a:t>
            </a:r>
            <a:endParaRPr b="0" lang="en-US" sz="2700" spc="-1" strike="noStrike">
              <a:solidFill>
                <a:srgbClr val="000000"/>
              </a:solidFill>
              <a:latin typeface="Lucida Sans Unicode"/>
            </a:endParaRPr>
          </a:p>
        </p:txBody>
      </p:sp>
      <p:sp>
        <p:nvSpPr>
          <p:cNvPr id="128" name="Rectangle 4"/>
          <p:cNvSpPr/>
          <p:nvPr/>
        </p:nvSpPr>
        <p:spPr>
          <a:xfrm>
            <a:off x="176040" y="533520"/>
            <a:ext cx="8739360" cy="112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llege &amp; Career Readiness </a:t>
            </a:r>
            <a:endParaRPr b="0" lang="en-US" sz="3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chor Standar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Rectangle 2" descr=""/>
          <p:cNvPicPr/>
          <p:nvPr/>
        </p:nvPicPr>
        <p:blipFill>
          <a:blip r:embed="rId1"/>
          <a:stretch/>
        </p:blipFill>
        <p:spPr>
          <a:xfrm>
            <a:off x="450720" y="268200"/>
            <a:ext cx="8242560" cy="1158840"/>
          </a:xfrm>
          <a:prstGeom prst="rect">
            <a:avLst/>
          </a:prstGeom>
          <a:ln w="0">
            <a:noFill/>
          </a:ln>
        </p:spPr>
      </p:pic>
      <p:sp>
        <p:nvSpPr>
          <p:cNvPr id="130" name="PlaceHolder 1"/>
          <p:cNvSpPr>
            <a:spLocks noGrp="1"/>
          </p:cNvSpPr>
          <p:nvPr>
            <p:ph/>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gration of Knowledge and Ideas</a:t>
            </a:r>
            <a:endParaRPr b="0" lang="en-US" sz="27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content presented in a variety of ways</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lineate and evaluate the argument and specific claims in a text</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alyze how 2 or more “texts” address similar themes (compare approaches of the authors)</a:t>
            </a:r>
            <a:endParaRPr b="0" lang="en-US" sz="2300" spc="-1" strike="noStrike">
              <a:solidFill>
                <a:srgbClr val="000000"/>
              </a:solidFill>
              <a:latin typeface="Lucida Sans Unicode"/>
            </a:endParaRPr>
          </a:p>
        </p:txBody>
      </p:sp>
      <p:sp>
        <p:nvSpPr>
          <p:cNvPr id="131" name="Rectangle 4"/>
          <p:cNvSpPr/>
          <p:nvPr/>
        </p:nvSpPr>
        <p:spPr>
          <a:xfrm>
            <a:off x="176040" y="533520"/>
            <a:ext cx="8739360" cy="112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llege &amp; Career Readiness </a:t>
            </a:r>
            <a:endParaRPr b="0" lang="en-US" sz="3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chor Standar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450720" y="268200"/>
            <a:ext cx="8242560" cy="1158840"/>
          </a:xfrm>
          <a:prstGeom prst="rect">
            <a:avLst/>
          </a:prstGeom>
          <a:ln w="0">
            <a:noFill/>
          </a:ln>
        </p:spPr>
      </p:pic>
      <p:sp>
        <p:nvSpPr>
          <p:cNvPr id="133" name="PlaceHolder 1"/>
          <p:cNvSpPr>
            <a:spLocks noGrp="1"/>
          </p:cNvSpPr>
          <p:nvPr>
            <p:ph/>
          </p:nvPr>
        </p:nvSpPr>
        <p:spPr>
          <a:xfrm>
            <a:off x="457200" y="17524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0 - </a:t>
            </a:r>
            <a:r>
              <a:rPr b="0" lang="en-US" sz="2400" spc="-1" strike="noStrike">
                <a:solidFill>
                  <a:srgbClr val="000000"/>
                </a:solidFill>
                <a:latin typeface="Lucida Sans Unicode"/>
              </a:rPr>
              <a:t>Range of Reading &amp; Level of Text Complexity</a:t>
            </a:r>
            <a:endParaRPr b="0" lang="en-US" sz="24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ext complexity</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assic &amp; Contemporary as well as Informational Text</a:t>
            </a:r>
            <a:endParaRPr b="0" lang="en-US" sz="2300" spc="-1" strike="noStrike">
              <a:solidFill>
                <a:srgbClr val="000000"/>
              </a:solidFill>
              <a:latin typeface="Lucida Sans Unicode"/>
            </a:endParaRPr>
          </a:p>
          <a:p>
            <a:pPr lvl="1" marL="620640" indent="-228600">
              <a:lnSpc>
                <a:spcPct val="21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yths, US Documents, American Literature, Shakespeare</a:t>
            </a:r>
            <a:endParaRPr b="0" lang="en-US" sz="2300" spc="-1" strike="noStrike">
              <a:solidFill>
                <a:srgbClr val="000000"/>
              </a:solidFill>
              <a:latin typeface="Lucida Sans Unicode"/>
            </a:endParaRPr>
          </a:p>
        </p:txBody>
      </p:sp>
      <p:sp>
        <p:nvSpPr>
          <p:cNvPr id="134" name="Rectangle 4"/>
          <p:cNvSpPr/>
          <p:nvPr/>
        </p:nvSpPr>
        <p:spPr>
          <a:xfrm>
            <a:off x="176040" y="533520"/>
            <a:ext cx="8739360" cy="112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llege &amp; Career Readiness </a:t>
            </a:r>
            <a:endParaRPr b="0" lang="en-US" sz="3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chor Standard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219240" y="268200"/>
            <a:ext cx="8474040" cy="1158840"/>
          </a:xfrm>
          <a:prstGeom prst="rect">
            <a:avLst/>
          </a:prstGeom>
          <a:ln w="0">
            <a:noFill/>
          </a:ln>
        </p:spPr>
      </p:pic>
      <p:sp>
        <p:nvSpPr>
          <p:cNvPr id="136"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nSpc>
                <a:spcPct val="1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ding (comprehension, fluency)</a:t>
            </a:r>
            <a:endParaRPr b="0" lang="en-US" sz="2300" spc="-1" strike="noStrike">
              <a:solidFill>
                <a:srgbClr val="000000"/>
              </a:solidFill>
              <a:latin typeface="Lucida Sans Unicode"/>
            </a:endParaRPr>
          </a:p>
          <a:p>
            <a:pPr marL="365040" indent="-255600">
              <a:lnSpc>
                <a:spcPct val="1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ing (clarity, compelling)</a:t>
            </a:r>
            <a:endParaRPr b="0" lang="en-US" sz="2300" spc="-1" strike="noStrike">
              <a:solidFill>
                <a:srgbClr val="000000"/>
              </a:solidFill>
              <a:latin typeface="Lucida Sans Unicode"/>
            </a:endParaRPr>
          </a:p>
          <a:p>
            <a:pPr marL="365040" indent="-255600">
              <a:lnSpc>
                <a:spcPct val="1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peaking &amp; Listening (articulation, perception)</a:t>
            </a:r>
            <a:endParaRPr b="0" lang="en-US" sz="2300" spc="-1" strike="noStrike">
              <a:solidFill>
                <a:srgbClr val="000000"/>
              </a:solidFill>
              <a:latin typeface="Lucida Sans Unicode"/>
            </a:endParaRPr>
          </a:p>
          <a:p>
            <a:pPr marL="365040" indent="-255600">
              <a:lnSpc>
                <a:spcPct val="1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 conventions (e.g. rules, vocabulary)</a:t>
            </a:r>
            <a:endParaRPr b="0" lang="en-US" sz="2300" spc="-1" strike="noStrike">
              <a:solidFill>
                <a:srgbClr val="000000"/>
              </a:solidFill>
              <a:latin typeface="Lucida Sans Unicode"/>
            </a:endParaRPr>
          </a:p>
          <a:p>
            <a:pPr lvl="1" marL="620640" indent="0">
              <a:lnSpc>
                <a:spcPct val="1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0">
              <a:lnSpc>
                <a:spcPct val="1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143000"/>
            <a:ext cx="8229600" cy="5105520"/>
          </a:xfrm>
          <a:prstGeom prst="rect">
            <a:avLst/>
          </a:prstGeom>
          <a:noFill/>
          <a:ln w="0">
            <a:noFill/>
          </a:ln>
        </p:spPr>
        <p:txBody>
          <a:bodyPr anchor="t">
            <a:normAutofit/>
          </a:bodyPr>
          <a:p>
            <a:pPr marL="623880" indent="-514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Learning Outcomes</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articipants have </a:t>
            </a:r>
            <a:r>
              <a:rPr b="0" lang="en-US" sz="2400" spc="-1" strike="noStrike">
                <a:solidFill>
                  <a:srgbClr val="000000"/>
                </a:solidFill>
                <a:latin typeface="Lucida Sans Unicode"/>
              </a:rPr>
              <a:t>explored the relationship  between the new Essential Standards and the Common Core State Standards for English Language Arts  &amp; identified the natural links between Arts Instruction and Literacy concepts</a:t>
            </a:r>
            <a:endParaRPr b="0" lang="en-US" sz="24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hare:  </a:t>
            </a:r>
            <a:endParaRPr b="0" lang="en-US" sz="24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affirmation of something you already do</a:t>
            </a:r>
            <a:endParaRPr b="0" lang="en-US" sz="24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element that you will try in the next 3 weeks</a:t>
            </a:r>
            <a:endParaRPr b="0" lang="en-US" sz="24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 concept that you would like to try but may need more support</a:t>
            </a:r>
            <a:endParaRPr b="0" lang="en-US" sz="24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623880" indent="-514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623880" indent="-514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138" name="Rectangle 4"/>
          <p:cNvSpPr/>
          <p:nvPr/>
        </p:nvSpPr>
        <p:spPr>
          <a:xfrm>
            <a:off x="1827360" y="304920"/>
            <a:ext cx="54889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Wrap-up &amp; Next Steps</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143000"/>
            <a:ext cx="8229600" cy="51055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Learning Outcomes</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Participants wil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plore the relationship  between the new Essential Standards and the Common Core State Standards for English Language Art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dentify the natural links between Arts Instruction and Literacy concept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106" name="Titl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378000" y="268200"/>
            <a:ext cx="8315280" cy="1158840"/>
          </a:xfrm>
          <a:prstGeom prst="rect">
            <a:avLst/>
          </a:prstGeom>
          <a:ln w="0">
            <a:noFill/>
          </a:ln>
        </p:spPr>
      </p:pic>
      <p:sp>
        <p:nvSpPr>
          <p:cNvPr id="10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independe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strong content knowledg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ond to the varying demands of audience, task, purpose, and discip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prehend as well as crit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alue evide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technology and digital media strategically and capabl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e to understand other perspectives and culture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Rectangle 2" descr=""/>
          <p:cNvPicPr/>
          <p:nvPr/>
        </p:nvPicPr>
        <p:blipFill>
          <a:blip r:embed="rId1"/>
          <a:stretch/>
        </p:blipFill>
        <p:spPr>
          <a:xfrm>
            <a:off x="450720" y="268200"/>
            <a:ext cx="8242560" cy="1158840"/>
          </a:xfrm>
          <a:prstGeom prst="rect">
            <a:avLst/>
          </a:prstGeom>
          <a:ln w="0">
            <a:noFill/>
          </a:ln>
        </p:spPr>
      </p:pic>
      <p:sp>
        <p:nvSpPr>
          <p:cNvPr id="11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Sans Unicode"/>
              </a:rPr>
              <a:t>Demonstrate Independence</a:t>
            </a:r>
            <a:endParaRPr b="0" lang="en-US" sz="41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nderstand key points</a:t>
            </a:r>
            <a:endParaRPr b="0" lang="en-US" sz="2400" spc="-1" strike="noStrike">
              <a:solidFill>
                <a:srgbClr val="000000"/>
              </a:solidFill>
              <a:latin typeface="Lucida Sans Unicode"/>
            </a:endParaRPr>
          </a:p>
          <a:p>
            <a:pPr lvl="1" marL="620640" indent="-228600">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 Plot, Focal Points, Musical Theme)</a:t>
            </a:r>
            <a:endParaRPr b="0" lang="en-US" sz="18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uild on others’ ideas &amp; articulate their own</a:t>
            </a:r>
            <a:endParaRPr b="0" lang="en-US" sz="2400" spc="-1" strike="noStrike">
              <a:solidFill>
                <a:srgbClr val="000000"/>
              </a:solidFill>
              <a:latin typeface="Lucida Sans Unicode"/>
            </a:endParaRPr>
          </a:p>
          <a:p>
            <a:pPr lvl="1" marL="620640" indent="-228600">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 improvisation, presentation)</a:t>
            </a:r>
            <a:endParaRPr b="0" lang="en-US" sz="1800" spc="-1" strike="noStrike">
              <a:solidFill>
                <a:srgbClr val="000000"/>
              </a:solidFill>
              <a:latin typeface="Lucida Sans Unicode"/>
            </a:endParaRPr>
          </a:p>
          <a:p>
            <a:pPr marL="365040" indent="-255600">
              <a:lnSpc>
                <a:spcPct val="13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Broad vocabulary</a:t>
            </a:r>
            <a:endParaRPr b="0" lang="en-US" sz="2400" spc="-1" strike="noStrike">
              <a:solidFill>
                <a:srgbClr val="000000"/>
              </a:solidFill>
              <a:latin typeface="Lucida Sans Unicode"/>
            </a:endParaRPr>
          </a:p>
          <a:p>
            <a:pPr lvl="1" marL="620640" indent="-228600">
              <a:lnSpc>
                <a:spcPct val="13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g. movement, stage directions, dynamic markings, visual art technique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0720" y="268200"/>
            <a:ext cx="8242560" cy="1158840"/>
          </a:xfrm>
          <a:prstGeom prst="rect">
            <a:avLst/>
          </a:prstGeom>
          <a:ln w="0">
            <a:noFill/>
          </a:ln>
        </p:spPr>
      </p:pic>
      <p:sp>
        <p:nvSpPr>
          <p:cNvPr id="112"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Sans Unicode"/>
              </a:rPr>
              <a:t>Build Content Knowledge</a:t>
            </a:r>
            <a:endParaRPr b="0" lang="en-US" sz="4100" spc="-1" strike="noStrike">
              <a:solidFill>
                <a:srgbClr val="000000"/>
              </a:solidFill>
              <a:latin typeface="Lucida Sans Unicode"/>
            </a:endParaRPr>
          </a:p>
          <a:p>
            <a:pPr lvl="1" marL="620640" indent="-228600">
              <a:lnSpc>
                <a:spcPct val="1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 purposefully</a:t>
            </a:r>
            <a:endParaRPr b="0" lang="en-US" sz="2800" spc="-1" strike="noStrike">
              <a:solidFill>
                <a:srgbClr val="000000"/>
              </a:solidFill>
              <a:latin typeface="Lucida Sans Unicode"/>
            </a:endParaRPr>
          </a:p>
          <a:p>
            <a:pPr lvl="1" marL="620640" indent="-228600">
              <a:lnSpc>
                <a:spcPct val="1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sten attentively</a:t>
            </a:r>
            <a:endParaRPr b="0" lang="en-US" sz="2800" spc="-1" strike="noStrike">
              <a:solidFill>
                <a:srgbClr val="000000"/>
              </a:solidFill>
              <a:latin typeface="Lucida Sans Unicode"/>
            </a:endParaRPr>
          </a:p>
          <a:p>
            <a:pPr lvl="1" marL="620640" indent="-228600">
              <a:lnSpc>
                <a:spcPct val="1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ain discipline-specific expertis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0720" y="268200"/>
            <a:ext cx="8242560" cy="1158840"/>
          </a:xfrm>
          <a:prstGeom prst="rect">
            <a:avLst/>
          </a:prstGeom>
          <a:ln w="0">
            <a:noFill/>
          </a:ln>
        </p:spPr>
      </p:pic>
      <p:sp>
        <p:nvSpPr>
          <p:cNvPr id="11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Lucida Sans Unicode"/>
              </a:rPr>
              <a:t>Respond to the varying demands of audience, task, purpose, and discipline</a:t>
            </a:r>
            <a:endParaRPr b="0" lang="en-US" sz="3400" spc="-1" strike="noStrike">
              <a:solidFill>
                <a:srgbClr val="000000"/>
              </a:solidFill>
              <a:latin typeface="Lucida Sans Unicode"/>
            </a:endParaRPr>
          </a:p>
          <a:p>
            <a:pPr lvl="1" marL="620640" indent="-228600">
              <a:lnSpc>
                <a:spcPct val="16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uance</a:t>
            </a:r>
            <a:endParaRPr b="0" lang="en-US" sz="2800" spc="-1" strike="noStrike">
              <a:solidFill>
                <a:srgbClr val="000000"/>
              </a:solidFill>
              <a:latin typeface="Lucida Sans Unicode"/>
            </a:endParaRPr>
          </a:p>
          <a:p>
            <a:pPr lvl="1" marL="620640" indent="-228600">
              <a:lnSpc>
                <a:spcPct val="16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one</a:t>
            </a:r>
            <a:endParaRPr b="0" lang="en-US" sz="2800" spc="-1" strike="noStrike">
              <a:solidFill>
                <a:srgbClr val="000000"/>
              </a:solidFill>
              <a:latin typeface="Lucida Sans Unicode"/>
            </a:endParaRPr>
          </a:p>
          <a:p>
            <a:pPr lvl="1" marL="620640" indent="-228600">
              <a:lnSpc>
                <a:spcPct val="16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ntext</a:t>
            </a:r>
            <a:endParaRPr b="0" lang="en-US" sz="2800" spc="-1" strike="noStrike">
              <a:solidFill>
                <a:srgbClr val="000000"/>
              </a:solidFill>
              <a:latin typeface="Lucida Sans Unicode"/>
            </a:endParaRPr>
          </a:p>
          <a:p>
            <a:pPr lvl="1" marL="6206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450720" y="268200"/>
            <a:ext cx="8242560" cy="1158840"/>
          </a:xfrm>
          <a:prstGeom prst="rect">
            <a:avLst/>
          </a:prstGeom>
          <a:ln w="0">
            <a:noFill/>
          </a:ln>
        </p:spPr>
      </p:pic>
      <p:sp>
        <p:nvSpPr>
          <p:cNvPr id="116"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Sans Unicode"/>
              </a:rPr>
              <a:t>Comprehend as well as critique</a:t>
            </a:r>
            <a:endParaRPr b="0" lang="en-US" sz="41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pen-minded</a:t>
            </a:r>
            <a:endParaRPr b="0" lang="en-US" sz="28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scerning</a:t>
            </a:r>
            <a:endParaRPr b="0" lang="en-US" sz="2800" spc="-1" strike="noStrike">
              <a:solidFill>
                <a:srgbClr val="000000"/>
              </a:solidFill>
              <a:latin typeface="Lucida Sans Unicode"/>
            </a:endParaRPr>
          </a:p>
          <a:p>
            <a:pPr lvl="1" marL="620640" indent="-228600">
              <a:lnSpc>
                <a:spcPct val="17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dhere to protocol</a:t>
            </a:r>
            <a:endParaRPr b="0" lang="en-US" sz="2800" spc="-1" strike="noStrike">
              <a:solidFill>
                <a:srgbClr val="000000"/>
              </a:solidFill>
              <a:latin typeface="Lucida Sans Unicode"/>
            </a:endParaRPr>
          </a:p>
          <a:p>
            <a:pPr lvl="1" marL="6206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0720" y="268200"/>
            <a:ext cx="8242560" cy="1158840"/>
          </a:xfrm>
          <a:prstGeom prst="rect">
            <a:avLst/>
          </a:prstGeom>
          <a:ln w="0">
            <a:noFill/>
          </a:ln>
        </p:spPr>
      </p:pic>
      <p:sp>
        <p:nvSpPr>
          <p:cNvPr id="118"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Lucida Sans Unicode"/>
              </a:rPr>
              <a:t>Value evidence</a:t>
            </a:r>
            <a:endParaRPr b="0" lang="en-US" sz="41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what you see in the painting…</a:t>
            </a:r>
            <a:endParaRPr b="0" lang="en-US" sz="28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what you hear that supports…</a:t>
            </a:r>
            <a:endParaRPr b="0" lang="en-US" sz="28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what movements were …</a:t>
            </a:r>
            <a:endParaRPr b="0" lang="en-US" sz="28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the characterization …</a:t>
            </a:r>
            <a:endParaRPr b="0" lang="en-US" sz="2800" spc="-1" strike="noStrike">
              <a:solidFill>
                <a:srgbClr val="000000"/>
              </a:solidFill>
              <a:latin typeface="Lucida Sans Unicode"/>
            </a:endParaRPr>
          </a:p>
          <a:p>
            <a:pPr lvl="1" marL="620640" indent="-228600">
              <a:lnSpc>
                <a:spcPct val="12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scribe the technical elements that …</a:t>
            </a:r>
            <a:endParaRPr b="0" lang="en-US" sz="2800" spc="-1" strike="noStrike">
              <a:solidFill>
                <a:srgbClr val="000000"/>
              </a:solidFill>
              <a:latin typeface="Lucida Sans Unicode"/>
            </a:endParaRPr>
          </a:p>
          <a:p>
            <a:pPr lvl="1" marL="6206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450720" y="268200"/>
            <a:ext cx="8242560" cy="1158840"/>
          </a:xfrm>
          <a:prstGeom prst="rect">
            <a:avLst/>
          </a:prstGeom>
          <a:ln w="0">
            <a:noFill/>
          </a:ln>
        </p:spPr>
      </p:pic>
      <p:sp>
        <p:nvSpPr>
          <p:cNvPr id="120" name="PlaceHolder 1"/>
          <p:cNvSpPr>
            <a:spLocks noGrp="1"/>
          </p:cNvSpPr>
          <p:nvPr>
            <p:ph/>
          </p:nvPr>
        </p:nvSpPr>
        <p:spPr>
          <a:xfrm>
            <a:off x="457200" y="1481040"/>
            <a:ext cx="8229600" cy="3929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Use technology and digital media strategically and capably</a:t>
            </a:r>
            <a:endParaRPr b="0" lang="en-US" sz="3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w do students have an opportunity to use technology and digital media in your arts classroom?</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12:29:00Z</dcterms:created>
  <dc:creator>elizabeth_droessler</dc:creator>
  <dc:description/>
  <dc:language>en-US</dc:language>
  <cp:lastModifiedBy>elizabeth_droessler</cp:lastModifiedBy>
  <dcterms:modified xsi:type="dcterms:W3CDTF">2012-01-23T21:08:02Z</dcterms:modified>
  <cp:revision>65</cp:revision>
  <dc:subject/>
  <dc:title>Common Core  Essential Standards  in the Arts</dc:title>
</cp:coreProperties>
</file>